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465-DC12-48A2-AA87-64F0B67D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81B-7510-4DA5-93DF-2E2CB7D9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975-6D9E-4C87-99C1-67B7203F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B8A-B04F-4914-B207-C01896E7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944-1A3F-40B0-80D8-911C4A35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486-B99C-4C30-895D-58F17511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DD7-6B36-4B47-ABC0-013A6B3E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BD2-523E-4901-ADA9-56E499C8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708-572F-4BE9-B79F-C9838BA7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F61-5ACD-4F80-A619-110693B1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B4A-AEBA-44C4-A05A-E89ECE1D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BEF-642B-4557-B4D5-90BA3F7A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9063-2245-4B87-BF5D-2BFE4B529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oriesfromtheweb.org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3113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ize, Maximize, and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42884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43800" y="1295280"/>
            <a:ext cx="685800" cy="38124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w.poissonrouge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go?  Log Of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n this web address: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oriesfromtheweb.or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lick on the blue and purple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12192120" cy="9144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8800" y="4495680"/>
            <a:ext cx="3276720" cy="2362320"/>
          </a:xfrm>
          <a:prstGeom prst="ellipse">
            <a:avLst/>
          </a:prstGeom>
          <a:noFill/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419360" y="2057400"/>
            <a:ext cx="2438280" cy="259092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53341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ait for a minute while the computer bo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529240" cy="293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342900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209680"/>
            <a:ext cx="2133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600200" y="373392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ype in “rock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56272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“rocket”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5094000" y="4354200"/>
            <a:ext cx="315720" cy="1360440"/>
          </a:xfrm>
          <a:custGeom>
            <a:avLst/>
            <a:gdLst/>
            <a:ahLst/>
            <a:rect l="l" t="t" r="r" b="b"/>
            <a:pathLst>
              <a:path w="199" h="857">
                <a:moveTo>
                  <a:pt x="7" y="41"/>
                </a:moveTo>
                <a:lnTo>
                  <a:pt x="0" y="0"/>
                </a:lnTo>
                <a:lnTo>
                  <a:pt x="199" y="85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56386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n click O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o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95480" y="23623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is icon to go to the world wide web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791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will open a web browser called Internet Explor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page will look like thi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80028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stuff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1371600"/>
            <a:ext cx="4800600" cy="22860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” butt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is after you’ve typed in your web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54296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43600" y="1676520"/>
            <a:ext cx="304920" cy="30456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nd 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38080" y="1371600"/>
            <a:ext cx="609840" cy="38088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28:05Z</dcterms:created>
  <dc:creator>Franklin High School</dc:creator>
  <dc:description/>
  <dc:language>en-US</dc:language>
  <cp:lastModifiedBy>Franklin High School</cp:lastModifiedBy>
  <dcterms:modified xsi:type="dcterms:W3CDTF">2008-04-28T19:38:02Z</dcterms:modified>
  <cp:revision>5</cp:revision>
  <dc:subject/>
  <dc:title>Computer Basics</dc:title>
</cp:coreProperties>
</file>